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616-D21D-46D5-A006-61A6B49B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07B-2E37-4A76-8BD5-72B33458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06943-97C2-4400-B3C3-36051DC3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E7DD6-3F96-49C1-BEB5-61B9275E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901A4-25B3-4CD0-81B9-CFC7F498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FBA8A-C552-4B18-BF99-B9608E3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3B2F7-77FD-4AC6-9802-9CA03EE8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5643B-E818-4DEE-8BFC-5B2A34C9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91AB8-4820-460B-97E4-93A8CF8B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65FB2-E24D-446D-B29A-4415ABA9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8CD4C-4B45-44E8-A3B7-64C29082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8586D-FFB5-40B4-9211-69D60FC8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D31-2ABA-42BC-85F5-08401604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3F7B1-D98E-4A53-8E09-3D0F0372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806A9-45E7-4E34-A3CA-64AAB7DD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138AE-B72D-454E-AB08-4485AE58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BD86F-B8DB-4F27-A2E7-D62C545D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3238B-8622-4091-8151-D9CF56C3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5A20E-5BA0-433D-BD60-9552768D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CB112-6833-4445-A323-59E33C9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686C0-C2E1-43F5-8ED7-828F646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30579-4723-4961-B58A-B4BFBF0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85CF8-D3DE-418C-9DE7-FF475841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610-0375-404F-BCE7-AF8F7940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EADDB-01AC-4CE2-8676-598B9CCC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31AA3-0A71-4647-9F4B-56D42FF9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234D9-CE51-4A2C-8C22-894C74F1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C0325-5B7D-4202-8E3E-472BBB91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7D538-E7A2-4EB3-B080-B53D6FEB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89B44-66ED-43F2-8D6C-1079A1B6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E73D4-D601-4EFC-BA85-D2081ED8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9AF06-FB33-4882-96E6-7224F85A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5F845-5A67-41BC-999C-3CD11AC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0B8D1-8CB8-4A82-AAB7-21AFFED0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9BB7-753B-441C-AD3F-8437DAC1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DB7B5-3B9D-4C31-A07D-C9705B9B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20728-9056-47BC-B772-BA4C3E31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D0CC0-5D8D-497B-AD0D-82359CFD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FB59E-C79C-4271-BDF0-BADE6F13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AF1AF-45CB-4174-9B50-75CA9C4B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7D82D-1F7B-44FF-8F8B-A25760F0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B1E92-7506-4458-A576-B45BFBAF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08CBB-62CB-4566-8AAD-2C571167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D14A6-D7DB-4E01-A5E5-04E2860C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095F7-58F7-4708-8BB0-01C3FF56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3316-96B3-4CE9-B661-1B6CC7CC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069A0-49DA-42B4-BF5D-5823B5F3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42586-EEAA-4BCE-9F60-96F720D5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81EE2-6465-4F28-AB58-F19D0479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6DE62-9A3C-4719-8AAC-AF1F103F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560C9-C200-4531-A6E7-C3BB2BC5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889E-952E-47BD-A3B9-2CACED27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2F14-3C49-4EA6-8765-18271DE4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6801-3E08-42FC-9738-03C0EC8F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D484-BAE7-44CB-9AD8-C3C25EE3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4A29-40FB-45D9-8B98-4D47684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0C6-7A97-4648-9E4D-696FED3F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C7A7-4C40-4106-8E08-A01254CA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4454-A572-411E-A889-33B4466C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A156-7BD0-4E71-9B64-137ADC9C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8FDE-E6DF-4B17-ACF4-2A7491B4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C274-458C-46B0-8878-0C2AB25B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31A4C-3151-4CD7-933F-5427A733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5E69-8224-4434-859A-07047FDB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D578-55A8-4FCC-A093-1F04D331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390B9-6EBC-4EDB-8EFD-FC48D260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EBB9-5B1C-4B53-8773-192D8AC1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14F-B980-4D0E-BD31-49D6F7A2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9058-B1F9-4E10-B779-4B49595C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1DC6-270F-42BC-B04F-542E9812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26BE-E39E-46FD-90B5-B3C7B31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78A0-A68D-4C77-949E-36A5BE55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1310-2A1A-4E15-87F1-69BDBDEF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7AF1-6A53-4F56-BF76-C7686B30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9CA5-797E-48F5-9F80-B0F43110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1C0D-028A-4F48-86AE-03297C60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10E5-0B81-4324-9C69-94C6B9A6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FAF1B-E76A-40DC-88F7-13388E88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EAB-D56B-4EC7-97C4-18B1FF57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B732-9411-4D55-8129-718A8CC6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40DB-3C51-40C9-9AD5-0A8C3CE1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57CFC-0F2E-4FAF-9E15-DC96DC48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9254-567E-4742-91D3-BFFD6CE0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E67AA-09E6-4B29-BE01-92AA9A58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9F31C-46F1-48D0-ACDB-07675216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1D32A-0E44-46C0-88B9-FD05BCCC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FCE06-A0E9-4D8C-8882-A8566BBB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ABD3-51FF-4591-BD2E-A8223BEA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2C98-8D9B-4343-96CD-A243B8D1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16F-35EE-4A0E-8A10-5148EEFA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AF7C5-7F5E-4B36-AFD6-A242C7EE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E9151-9F90-4150-8098-F5C5B4A0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2F3B-044D-4B31-88E6-C79A38DA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EBAD2-6714-4940-AA4E-1FABBD2E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9A19E-96D4-4305-9DD0-D82E676E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CD4A-5BE1-48A0-86EE-1CEE4991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D8C1-9C5A-483E-80B8-5BE18C3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9843B-473D-4F37-9806-8050CD09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CB102-17B6-4357-81BD-F65CFFA6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51252-6083-4DC0-81F0-63C41AA9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FD1-185A-48C2-9ED6-A9B5EF5C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1B8F-ED11-45CC-9E7B-0EB17D95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3E5CF-CE07-4CFD-960D-3E0A6997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0BDCB-2D08-41C1-A731-0D40B6C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CFA06-6F79-42F2-9698-AB1375F1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548F-67A5-49EC-9E77-984343FC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50157-114B-49AA-8522-7BD7761E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D05B3-70DA-43D3-8594-06B9DBEC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8908D-AE93-4B67-AE86-0E97EE15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6BD55-875A-4985-ABF1-7486333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C96C-A128-4DB2-B0F1-A1189C0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F1C-6A5E-429A-8794-C909F4BC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EFD62-5CC6-4AEB-B284-FCEB8B23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1E38-4B7B-4CA3-89EA-677C61E6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27634-ABA7-4EE1-B93D-8703C850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8C1B5-7069-499E-96AF-29FC8E0D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2638F-6958-4044-AC59-86FA1605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C72A4-3DBD-47FA-9946-A29FF446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AFB59-4327-4403-BB27-1B4F2F40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C1040-7184-4DFC-8862-DA191D1C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DD4F4-B232-46B4-BE82-5BB789E8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DDC17-7FB5-4135-A6FC-C3A3436A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5B2-85FF-4657-BD53-B2CA4886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AA158-17A5-4D5E-BA05-E3EB4107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21A9B-260F-42AE-A282-1701AF2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206BF-4CC3-4227-A842-5D5D1047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D69DB-8B52-4D9A-9AA7-ACB2E9CF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A0EC8-FE52-4B85-8E41-776AACA8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208DE-4798-4D32-B37F-86EA9AA2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6DCD4-2087-4929-9DA7-F71B1D2F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2E26-44E9-4193-82F2-0BF6DECE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7D26F-2555-486F-9843-4C03A412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90C02-A89E-4CF3-B650-FA24BCB4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107-7115-4B45-890C-4A47529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3CF4-245C-417D-AD8E-A6D137B7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873A2-CAA2-44C4-947F-726EF062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6BECD-5934-4037-A7C7-211809A5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A0219-21B1-496E-B92F-58E4642B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BAF44-28AA-4289-8286-A58A8A5E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7A02B-5AB3-4BA1-B244-78A420AF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9152F-A7C5-4539-8E02-1AFF2028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7220E-6558-4261-B1E4-E9FB982D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AE6A8-5F38-4775-AA50-472C3A60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0D0DB-7A28-4853-8EE0-8A6B677A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9149-3AA9-4BD4-B017-1EB43ACFC7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4D70-33B6-49B3-B9D3-F29A3AFB6D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0BA6-234C-4B88-A61A-619B59ED79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1614-9D19-42DA-993A-3CD87A8845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DDDF-EFED-4BB5-8706-4EA8A4F7DE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1F74-264E-46EF-9A42-2996701763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B755-31FE-4065-8450-8DFBB257B4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C405-578E-435B-8287-BDD4A3C4F4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BB94-296D-4E5D-9E02-6272081BD4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2249-B106-42D6-80A2-46F84C5AD5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99F6-6081-4BA0-A04F-3F2093965D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40F8-2E8E-444A-956A-3256850C0A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9 Pane, ty nám dávaš hoj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ty nám dávaš hojne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darov svojej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ti za to odovzdá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plné vďa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mi aj dnes našu chvál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ú obeť zmier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ám z hrobu ukáza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u k sláve vzkrie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y tvojej ruky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nás verne zúroč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užbou blížnym bez repta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klad tvojej lásky c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nieť vôľu, chcenie, snah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 práci úspech, radosť pr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náporom pokuš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u bdelú zacho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dať možno, stále dávaš mierou svojej štedr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irkev svoju zachováva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ravde, láske, svor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staň s nami, drah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kiaľ naša trvá pú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íme, že lampe vie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dáš vo tme vyhasnú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7:18:32Z</dcterms:modified>
  <cp:revision>54</cp:revision>
  <dc:subject/>
  <dc:title>Je veľký náš Pán, on slávy je Kráľ Nech do všetkých strán  spev vrúcnych znie chvál.</dc:title>
</cp:coreProperties>
</file>